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883-222E-476F-918F-4F475963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978-6FBD-46C8-B3BF-D4B97CB8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BDBB-4080-4A07-8F7C-34C7E653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A79-A278-4BE8-9014-B4EB8BD1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44A-1A84-4956-993A-AC8B779C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AE0-EF85-4765-998C-2D239CF2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A91-C50F-4680-8402-32EE4A79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FA4-DC44-404B-B434-7598280C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9E2-AB60-4D26-94D8-34504FB5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D1F-675E-4E34-9F3F-21AFFD19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C84-C74C-4F1B-9E8C-F08EF52D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5EA5-AFC8-4571-9D58-FBAA34F8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33FE-F971-489C-AD2B-C0612DEA6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upeni-lyceum.ru/editor/uploads/files/libr_big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-crimea.info/pictures/h_lh0BdVaTwW36DkNYSIZcp5e9gjn8QFPz_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ooklya.com.ua/files/books/7774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Библиотеки, энциклопеди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и словар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в Интер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У СОШ №1 г. Спас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Библиотек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реч. bibliothēkē, от biblíon — книга и thēkē — хранилище) </a:t>
            </a: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то культурно-просветительное и научно вспомогательное учреждение, организующее общественное пользование произведениями печа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20 из 1163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645000"/>
            <a:ext cx="40323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Электронная библиотека – это распределенная информационная система, позволяющая надежно сохранять и эффективно использовать разнородные коллекции электронных документов через глобальные сети передач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в удобном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конеч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пользователя вид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21 из 4498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645000"/>
            <a:ext cx="41608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Российская государстве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rs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Библиотека Мо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lib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Научная электро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elibrary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Энциклопедия</a:t>
            </a:r>
            <a:r>
              <a:rPr b="1" i="1" lang="ru-RU" sz="26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от греч . enkyklios paideia - обучение по всему кругу знаний)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научное или научно-популярное справочное издание, содержащее систематизированный свод знани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3610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Электронная энциклопедия может быть копией печатной энциклопедии или оригинальным электронным изд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0 из 36727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637000"/>
            <a:ext cx="31035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лектронные энциклопе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dic.academic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ru.wikipedia.org</a:t>
            </a: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Круго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 krugosve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Словарь — книга, содержащая собрание слов, расположенных по определённому принципу, и дающая сведения об их значениях, употреблении, происхождении, переводе на другой язык и т. п. или информацию о понятиях и предметах, ими обозначаемых, о деятелях в каких-либо областях науки, культуры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27280" y="4221000"/>
            <a:ext cx="432000" cy="43200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149720"/>
            <a:ext cx="576360" cy="43164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4797360"/>
            <a:ext cx="3229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энциклопед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48360" y="4797360"/>
            <a:ext cx="3228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лингвист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переводчик – это программа, позволяющая переводить тексты, с сохранением исходного форматирования, и электронные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4869000"/>
            <a:ext cx="8218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словарь – это программа, которая обеспечивает перевод слов с русского языка на другой и на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25 из 622"/>
          <p:cNvPicPr/>
          <p:nvPr/>
        </p:nvPicPr>
        <p:blipFill>
          <a:blip r:embed="rId2"/>
          <a:srcRect l="3315" t="4973" r="4807" b="3978"/>
          <a:stretch/>
        </p:blipFill>
        <p:spPr>
          <a:xfrm rot="120000">
            <a:off x="3349800" y="2135160"/>
            <a:ext cx="4030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Онлайновый переводчик ПРОМ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translat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lingvo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30T08:08:46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